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2F8-89FD-4854-8318-60DF95D3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DA3-C2B1-4902-B1AB-335C5C4D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482-C714-4351-84EA-6E6987C0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1C5-0240-4D70-B1DA-9F5D8AC4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5814-2A59-4D96-80DF-FD724384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5E3-4451-4852-B0FD-D7C1A4F8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B38C-C81C-41D4-A955-BAD330B3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846F-C965-4104-B8B3-AA58E592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4184-CB4F-4A1A-B7DF-F2D3F95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813-1BB4-470E-AC70-5F40BA2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96FA-192D-4456-8C43-B514530A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D40-C6F3-40C4-B9A2-5579D74C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7BF-0F86-4AD4-BFEF-E3F0061C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1143-05AC-441C-A450-10AF9A0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DF41-E624-4408-A3AF-47E6C649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A5DD-F00F-439F-BDD8-4F6AC265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351E-B0AF-44A7-BB0A-E84DDC61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968-3ADC-43F4-9E2D-38006383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D68-12B1-4402-B747-57FBA25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917-39EA-47F3-881F-973CADD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426-242F-4B9F-952E-51481363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0C3-3546-4C32-BEAC-8B13786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B3C-403D-4A91-BB50-0FCECE45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D79-65AA-48AA-A0C1-D9BE160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CFB9-D3D6-4286-BAC4-EDC8006DB1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B83-659E-449A-8FD7-52D5D4EC09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B7DEBC5C-451C-439B-9843-A7DF726949B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ους οὐραν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 τα πλο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οικ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ἱ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ῃ ἐκκλησι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the he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crow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way from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772160" y="218124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heav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wards the b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(from)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away) from the te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Church (assemb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ους καρδ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ις τους ὀχ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αὐ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MORE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A5DEB431-3358-4F58-BDBB-FB87870B001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’ αὐ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ν νομ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τα του θε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ὐπερ του κυ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ον θεο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υ Χρισ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ut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nder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772160" y="2181240"/>
            <a:ext cx="29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the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gainst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behalf of the L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rough Ch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(της) ἀγαπ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(της) θαλασ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 την γη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3C1EDFE3-A1A5-4088-B2BD-963E0BE8D4B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0" y="1649520"/>
            <a:ext cx="542916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δια τον λογον του κυριου πιστευω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Ἰησους ἀγει τους ἀδελφους προ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α πλοι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αλαουσιν αὐτῳ περι του ἱερ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ὁ κυριος της οἰκιας ὑπερ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εκν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υἱος λαμβανει τον ἀρτον μετ’ αὐ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φιλει τα ἐργα κατα τον νομο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781520" y="16700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believe because of the word of the L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72160" y="2367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leading the brothers towards the bo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786200" y="3429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speaking to him about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786200" y="41022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aster of the household speaks on behalf of his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797360" y="51577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n takes the bread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786200" y="5864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deeds according to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93A38C78-911A-488C-9951-E5DFCE5291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42920" y="1755720"/>
            <a:ext cx="54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Παυλος λεγει τῳ λαῳ κατα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Χριστου τ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17748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ul speaks to the people against God’s messi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25369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leading the children into the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32274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 αὐτο ἐν τῃ καρδια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929120" y="39290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διδασκει τον ὀχλον ἐξω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929120" y="47149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φιλει τους λαους ὑπο (τον)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929120" y="5527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λεγει τον νομον δια ἀγγελων (δι’ ἀγγελ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36440" y="2517840"/>
            <a:ext cx="5429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ἀγουσιν τα τεκνα εἰς τον οἰκο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42920" y="32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ee it in her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157320" y="40719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teaching the crowd outside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146160" y="4738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peoples under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139680" y="55418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the law through ang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85800" y="164304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 following would use an instrumental dati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28840" y="26431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ent with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8840" y="33577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it by a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28840" y="407196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elped by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7815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walking with a st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4F9FAAC4-CA9A-4A8B-BBF3-96F8CD2B0E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420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INSTRUMENTS AND D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9"/>
          <p:cNvSpPr/>
          <p:nvPr/>
        </p:nvSpPr>
        <p:spPr>
          <a:xfrm>
            <a:off x="5214960" y="3405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10"/>
          <p:cNvSpPr/>
          <p:nvPr/>
        </p:nvSpPr>
        <p:spPr>
          <a:xfrm>
            <a:off x="5214960" y="4862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87480" y="2476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5 and 4.6 QUESTIONS &amp;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000080" y="20955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71440" y="1285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143000" y="201312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ἀκου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οὐκ ἀκου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ἡ καρδια λεγ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πιστευω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 αγεις τον ὀχ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72000" y="21510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572000" y="270504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does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83160" y="3252960"/>
            <a:ext cx="37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 does the heart spe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572000" y="3809880"/>
            <a:ext cx="34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do not believe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572000" y="4336920"/>
            <a:ext cx="45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re are you leading the crow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572000" y="48816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keep the la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58:03Z</dcterms:created>
  <dc:creator>Sarah</dc:creator>
  <dc:description/>
  <dc:language>en-US</dc:language>
  <cp:lastModifiedBy>Sarah</cp:lastModifiedBy>
  <dcterms:modified xsi:type="dcterms:W3CDTF">2008-09-07T14:33:17Z</dcterms:modified>
  <cp:revision>26</cp:revision>
  <dc:subject/>
  <dc:title>Slide 1</dc:title>
</cp:coreProperties>
</file>